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DB2-58D8-494F-B126-99578BAB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DBB-3942-4FB7-B0B1-D35D42D9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456-9D2B-419E-AD8C-08CFF315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2C0-C541-4357-8665-8DB87229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874-0D87-4046-AA8A-FDCD9FEE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06F-A74A-4B93-B802-B8686606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814-A713-4BCA-A14A-CA688C0C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62B-B3AA-4DF5-94B1-319DE5CA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344-91CD-4DCD-B670-E2EB20BF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F0F-65F8-4632-BE6F-D7507282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3F3-ED51-405C-88CB-42BF69C2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973-10A7-4885-BFFF-0F29B487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1D0D-0234-4513-9900-49580A3ED2E1}" type="slidenum">
              <a:rPr b="0" lang="en-GB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eewiki.newint.org/index.php/Protecting_the_planet_against_climate_chang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1206360"/>
            <a:ext cx="7772400" cy="397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076360" y="2020320"/>
            <a:ext cx="14292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7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4371840" y="4869000"/>
            <a:ext cx="2360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tle 1" descr=""/>
          <p:cNvPicPr/>
          <p:nvPr/>
        </p:nvPicPr>
        <p:blipFill>
          <a:blip r:embed="rId1"/>
          <a:stretch/>
        </p:blipFill>
        <p:spPr>
          <a:xfrm>
            <a:off x="249120" y="49320"/>
            <a:ext cx="8645760" cy="115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23640" y="8366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ainting mountains whit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developing houses that float on water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exting warning of bad weather to fishermen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utting air-conditioning in bus stop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ainting roof gardens whit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lending money to help people after disaster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giving free bottles of water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lanting more tree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fighting against dengu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improving the soil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(check your answers in the infographic on the next slid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tretch/>
        </p:blipFill>
        <p:spPr>
          <a:xfrm>
            <a:off x="-23760" y="77760"/>
            <a:ext cx="921528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2077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2492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eewiki.newint.org/index.php/Protecting_the_planet_against_climate_cha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5148360" y="3836880"/>
            <a:ext cx="324000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19:41:30Z</dcterms:created>
  <dc:creator>Linda Ruas</dc:creator>
  <dc:description/>
  <dc:language>en-US</dc:language>
  <cp:lastModifiedBy>Linda Ruas</cp:lastModifiedBy>
  <dcterms:modified xsi:type="dcterms:W3CDTF">2014-05-26T20:08:22Z</dcterms:modified>
  <cp:revision>3</cp:revision>
  <dc:subject/>
  <dc:title>Quiz about climate change: what are countries doing to “climate-proof” the planet?</dc:title>
</cp:coreProperties>
</file>